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9B2-7B3D-49CE-BE1C-86DB4E6B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09B-D22B-4664-9C9F-86BF8943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3FB32-3838-4500-9B70-2096846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7D16E-2A23-4EEB-853C-046759D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34E20-3208-489F-9507-7AC5F4A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B4B5-25F9-40D8-94C2-56265FE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9A60-8FC0-444B-8D25-0BF5A546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4A19-A884-45F4-B36C-7279FE3D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F0195-F493-41B1-9CF9-3C9DF01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1939A-A192-4159-AACC-DE109FA6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31DAC-72D4-443A-B17B-AFE70FC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8C3C9-3B1B-4881-AE59-7A04A7A9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083-22A1-4B1F-BBF3-53A72D35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07160-E3C5-4B44-AC30-9767B18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15235-C377-48BF-8479-2B6F043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10A77-0592-4C72-A84E-68BD02DF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56798-AC49-40FD-BC77-8A8AC505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DD8EA-1DD0-47C1-BD2D-93F5C57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2F6A9-9E70-474A-BB46-B6FD598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CA9A9-9358-48E6-8293-AA5936B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7FB7-D081-4D9D-8B66-A7D94E4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D1BBF-F551-4594-B45F-D3C3F57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BB043-2A39-4BA0-A201-EC2277E3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1F6-9D1E-4279-ADC4-44B225D9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27614-9088-455A-A6B1-BEFD0CAB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56561-1661-45CC-83DD-0A5CF8B9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0E1AA-00B4-4A42-A31E-F7652E94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A835E-453E-49CD-87F1-D05B2006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F806E-BDDA-48FF-872B-62E2206E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6B915-00F8-4431-BF13-8F17A90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3259-9D68-45E6-AF81-4A8543B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7846-4B2C-45C0-82AF-E1AD503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00CE7-8271-471E-A6B8-65E8BCE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3B419-3566-4D25-B5C5-2BA74E5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C230-A290-4013-B229-B3B16FC5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6A30-3422-436B-BE18-861DB6A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6989E-8DE5-40F4-BCA7-C342B6DC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E74CF-427C-484C-BFF7-FDB24687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19568-A8E7-4758-A1AF-A8B07711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48C4D-DB9C-4457-8E47-732A3BB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A0BAB-6B32-4BDD-88F9-F859557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27E6-CC05-4AF8-920E-0817EDE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6011F-45A5-40B8-B5E1-E14DCE28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794E-DD6D-44D0-8F75-5F5D2538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EE172-4611-4CA5-A316-77BC845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5D6-CBBD-487B-BC72-C2632C24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F9D72-BEBE-4B8B-B710-C7C6689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F4455-C91A-4C13-A66D-80CA783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5FB6C-DA22-4321-AAA3-064D175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7F765-E6B2-4F7F-ACF6-AD654E4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75467-BA3F-46E5-82BB-6097F520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8D1FF-A269-4F2B-A5B6-DE60697A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9ADFF-6259-4F4F-BDA2-AA002BBE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9198E-20CA-4128-AC10-8BB77015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28887-1E59-4394-BA8A-2F5FE9E4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E1579-4842-4C2F-9A08-C773E797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C4BB-7E68-4F29-8D9F-C8BA5430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B3BB0-BECF-474B-9654-D7E0459C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F61F9-6F00-4D16-944C-85C8789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FCCDA-CF7F-4476-B439-FBED8CA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FB654-128E-4E29-AC46-6AA940B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550CF-4332-4949-AFE6-ADF8A8E6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12897-A042-40BE-B15E-88E22162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177B6-BA66-486A-BC3F-89DFE699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779B7-55E8-4DAC-A6D7-891E2CBC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696EC-2563-461C-B8EC-77B8FD95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8F014-FE2B-4EAA-BAA5-A4133DD0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5FC-8A76-42F3-8EEE-4F042926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D7D1A-02F0-4A2E-B74A-233E26AE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C13C7-DBF7-44D6-BD6D-57D8861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9DDE3-1C4C-43EE-B67A-9B13D2B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E7FAB-5C99-41B1-92AF-98D559E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017D5-C9EE-4404-8A5B-E8517AD9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08803-DF89-44AA-B297-C8BE34B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5479A-4B9F-4155-88B3-33C8ACE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C775-A227-403D-A0AE-8C18DA0B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32581-7E7D-4D54-865B-D7978F31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A9EF2-B9E4-4BDC-AA85-C622E2B0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C7FE-717D-4AD3-906D-B841B13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6D657-3215-41DF-96C2-36B30972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F5C4C-3C04-4090-B447-4BF2FDB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3260A-4F4F-4A67-88C3-0DB1F041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73104-50B0-433A-BB44-3E5510B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515D3-4FFA-4207-938F-FFB3BEDE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624B5-C078-4F79-B6BE-6A2DCA1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F53F1-8248-47B3-A350-36210F7D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F8598-4372-4DE8-9561-44FA25E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B51F5-AAE9-4666-B0BE-8886D35A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64B1E-9478-4E6D-B601-2FEFF3D1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7968-4EC7-4127-B3B1-8AAA96C1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E267E-262D-4CE8-95BE-AB76C377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2F99E-8DAF-4D92-962B-214DC4D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6379A-8A69-404A-8FD8-40672EFF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A57F7-978D-4A7E-BD95-22E423D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406ACC-ADBB-4440-A6C7-63F6AD0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59D92-2053-4443-B852-F151E29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25902-F364-4E81-946B-85CBC41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27030-6BAF-4DE5-A8A2-B6484DB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3B9CB-FF08-45B5-A659-1F3808A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22868-D01B-4030-818C-DAA9DBD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4EA-4D08-4EF9-ABA3-9168FDD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73DA9-F930-454F-AB38-49953577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A557E-BDCC-41F5-8F81-F9BD2521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F211C-36D7-41D0-8988-4381AA88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E81E5-3EE5-4DDD-8EED-FAE63724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DE5C3-F175-432E-813C-938C1F4D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6A19B-54BC-4732-8244-0DB9D0A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DB644-00E0-4053-B57A-037E91F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C2C1E-37C4-4530-A0F9-FAD1F66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FD179-BE68-451D-99A9-F1A717F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E4D50-4FEC-4BD2-8B88-E4CDF02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D6B-29D1-4191-ACB5-3E5C4B0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D7CD-C5F8-4856-A168-B4E046F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CF4A80-3B19-468D-8DAA-D365852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71206-560A-4464-A913-76C72CF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F09F9-DADB-485D-9C14-61DC10B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91CAC-C722-4BA8-9137-8D33171A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B1645-2B1B-4346-99EA-9D2615F6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D2BA1-6FEA-4AB2-B88A-292696A3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3E395-9F39-482C-BC8B-12CEA23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EC1B6-7F64-4406-9E16-4ADE929F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2412A-AFAD-4299-AA94-88705B1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EB112-ED3E-4276-88CA-D590705C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914-946C-4C8B-9154-C77D562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C894A-E3E8-4FF8-8F61-A029212B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7C632-9DAB-4F0D-9980-9EAAA53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0CABD-5672-42A7-8EBF-A48692B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6E1C6-4EAF-4F4E-8009-2FC64275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DB619-22D2-459A-9673-3CF5D39E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3C706-EA4B-49A9-9285-76BA7D8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C527D-66AC-4229-B1DE-6205CAE2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D46E0-85C9-42B5-988D-BD127FEC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18055-5958-4A37-ACDD-41412C5F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38752-FDF7-4CDF-BE58-25ED9DA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E09-1CFC-49DB-A393-621E3C59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26595-051C-4417-B075-99ADC3B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CA6B1-1A42-4A4A-A0BC-63747742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D7C05-3E3D-4E9F-9556-1139DF4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5F5664-C461-4EC7-BB5D-F9FFB68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0443B-BA8B-4934-8C1E-02434A1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E28DD-D7F0-4642-971D-80D90AB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6BD71-7E8D-42B7-A59E-39E0DD0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2483F-ECE5-40AA-B227-6669BE89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67FAC-0638-4A1D-AE65-25386A3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A723D-048D-46DA-BCEB-56264C17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66C-888A-4A30-B4B9-9F74FD09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ED668-375B-40EE-9F41-4BBD40E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62850-DA2F-4451-A47A-F5BDBDA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7C7DF-656D-4633-B517-406305A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8582D-C203-46F5-A29F-B4B4686B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7B015-9087-46A1-B21E-829C9443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5F0CC-D452-4AFB-B208-6F6FFB91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9AE42-7234-4198-A402-B224E61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6BA5F-095C-4864-AA0D-6AFD6E6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E075E-3383-4420-884B-E1031243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2900F-8EC3-458D-9FC8-1AB0B967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4A33-F8A1-4777-8D9A-F117DFD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2B01F-02F4-4D28-9443-D9B4927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BE111-BD5C-4AEE-8E39-AD331B8D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070D8-B1E1-4AE5-9F39-2DE4632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68329-39C7-4365-B8E9-A79B03D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662D7-15B3-4587-82D5-CF79A79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5EF8F-045A-4797-99A8-5AA6D279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6168D-4FA8-4824-A82D-111ABBC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ACD6D-725C-4FE6-97DA-7669809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796AD-E97F-4E65-AEAD-3C53D66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84E1E-76BA-42F2-8100-E0626B2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CEC3-39D6-43D2-B7C1-FBC43212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E0B08-3883-40A5-B33E-BF4E6F4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E69AE-AD7F-49BA-B689-90B0305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B499D-DCAA-4D28-B4D7-8E1F2303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F4FA-9FBE-4078-80B8-6F7EA7D6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4D32-8F59-49F6-95AE-AA73F2D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5743-1449-40E7-A721-0D17248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9029-2748-41AD-8970-C0195B80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A3A-F26B-48C6-9034-71D8D4B5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6199-6B3B-445A-BC01-5ECA686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9276-0E88-4BB7-999C-50A9535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972B-A454-4B22-A381-08D9379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2B9D-4E3A-4925-8D20-DBDF322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99E8-8C3E-4EF9-97EC-4321F923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5BBA-5A08-47A1-BE0C-1D22BF36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58A9-3EF6-41CF-BD03-EF1D1150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A043-FE10-4B6E-B051-6635E85D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9262-7B4C-46A1-9776-671F3B1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0B43-8400-4DAF-8B34-9D80B68E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021-65E0-4FEA-8C42-F353216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8B80-B551-4E5B-96EF-E8848E7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8441-7ED8-4E8A-A033-8C85CF7E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769FA-98DF-4E12-93BA-E17E0B59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79E2-6114-47F2-8E9A-9E1C848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8FD0-DE03-4D2E-AEED-D6A5C26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341D-4B7D-4BF9-B0E6-D3AAB9A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8467-0DB9-4C22-8DDE-BA2BA40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A6FC-B8D4-4BDD-8979-A0EC26A9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9676-FFFA-4A5C-B4D3-4D826908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D77A-A5C6-4B50-906A-68BD1FD9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CBC-4B64-42FE-88E9-EDBC9692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17AD-3269-4013-901F-139EAE8B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F441F-D3CE-4C49-A378-577A48BB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1536-F08C-43E6-86D4-5E69EC5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7331-FFAA-44A7-8072-B8D7BBF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354B-AC13-46FA-86E8-39AFC2F4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BF421-4F07-455E-8DAF-81F0946B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FBF32-15B0-4503-A36A-31EC7274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930B-A763-4D52-BD30-746D0FE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460F-16E6-4F85-A1C7-9DA3DFDD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4DF8-FC8E-4A49-B3CD-A1330571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1E6-3202-430B-B88A-CBD03E4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60B29-3452-4D76-8709-22B13B8D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72D0-E147-4CB2-85D5-346D902C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9A3B-74B7-4806-BF1B-C3FCE618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FECA-7F54-476B-8996-7EDD1330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A0472-F2E2-43FC-9EF7-7759D4B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D8D5-E6DC-4ADF-8656-901D9E5B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1B9E-6797-44C6-A953-BD4457D3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2582-01B9-4306-BADA-30F627D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29CE-5BFE-4230-AA36-365B64E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93D96-0CDA-42EF-A67D-7E695456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96C-E773-40BF-9861-DC68B384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EBF4-3B1E-4D84-9645-364A9A8F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F02D3-6C63-4128-B484-DA3CB3A5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CF2D-C013-4256-8D42-BFDE7DF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1CEB-8B0F-49E5-8574-80B6036C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94AF-12C9-4734-BDDD-A42665AA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7A813-611C-4325-81D8-132B776C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0EF3-499B-4A0E-9DAB-E43015D7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3853-6125-454C-BCA0-56B3859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856AC-0766-4CB2-A7B9-54408EA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D6E4-E2BD-434F-A36D-DF34F1D6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1F3-D1B3-4EDE-99B5-B9EF088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6046-B27A-4CB2-AA16-C086F8A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5D6C-94AE-42B7-85B1-F43A883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716C-4C52-49F2-9329-A206D47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41E5D-627C-4A00-A601-DCBCF89C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7776-DD51-4916-AD00-C4966861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BBAE9-607A-4FEE-AC45-C7A3F3BF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855B-6EF9-4349-AF73-CDE449B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CF328-E4F1-4BAC-85B1-791DF6AA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81B1-D5E3-4A22-AAA5-12517BB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D9A4-99C4-46B8-9D01-2C9720A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708-1A15-4E69-9D08-0B4C337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6F6D-C5B0-42EF-835F-E94D9738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12C1B-E525-4042-A2F0-AFD022A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53263-DF67-4743-A67C-9E375A2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2668E-DC50-429B-820E-FC37770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22AB-0653-44B0-8414-60C858F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D43E-4579-48CD-A729-65E6DBF4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C549-B313-42EF-AF44-F158ECBC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B36E9-C9B3-488C-A5C7-05ACF049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AD02E-7333-4CED-A5A3-C23960CF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9D528-E0F9-4E27-944E-B849726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DF1-047B-4B82-A14C-1307F15ED5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53EA-A085-429B-A0B2-B9C564100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A44-069A-4ED0-B0CE-5356C8333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8E4-3BC9-43A0-9906-505B8D204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464-FC7F-48A0-8DF6-F227F1B4B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38E9-4F70-4640-8772-1B660963F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6D6-3A95-44D9-AE5C-7D0EBF2A1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DFC-16AC-4187-AED6-7B9CD8259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638-27DC-4ADA-BCD4-BDDAE71D8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9AF-C748-4B43-BA42-180DF94E9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DA2-0737-4C33-B660-8A7C6BAAB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755-0090-43EE-BCFE-39544BE6B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45DE-8ADA-4C21-91EA-C043BBA98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E04-5449-409D-8AB4-B580FA3D5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5ED5-B74E-4173-B501-99CF6FAAF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1EA4-92B6-4FB5-9965-BC0E4F28B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161-A82B-4BC8-943C-7CB6280BB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2130-012B-4602-A5A0-BB991211E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D80-C11D-4C3F-A7F0-2AE497696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3A8-33FD-4DD7-898C-C42655CCE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CB2-6FCE-41F6-9CB8-1BCEB691EF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D6D4-92F0-488E-85D1-56CCECA8A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7DC2-355B-49AA-8DAE-16A0A97F4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2E7-42C2-444E-B061-C07A2537A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334C-FF6A-404F-BF23-67D2B2947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895-D1B1-4010-9CE8-8D03581E8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180-8178-4CE4-BD4B-DCBC07366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FF3-7335-4D5B-BC3E-C417AB29D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18E-5DC3-4AA0-9213-61807A331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DF2-3F36-456E-A874-2B8109E30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BEE-68A9-481C-BCC6-43F85A18E2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C89-6144-4FDB-9755-443116AEC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C35-040C-4C0D-B4AD-3EC4CE6490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512-7188-4148-9DBF-B720F2A51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41A-E3F7-4D6A-919D-AE9E54D8FA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0B4C-4465-41EA-B36A-060B45552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B938-2E6D-4396-8D2A-82A4AC038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8E25-B10C-497E-8CCD-523416AF4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A77-10F5-4DE0-B892-87251D16A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FD5-4732-4B09-A9EF-BBFED370A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71560" y="3009960"/>
            <a:ext cx="7400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809640" y="1197000"/>
            <a:ext cx="7524720" cy="20955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9634" descr=""/>
          <p:cNvPicPr/>
          <p:nvPr/>
        </p:nvPicPr>
        <p:blipFill>
          <a:blip r:embed="rId2"/>
          <a:stretch/>
        </p:blipFill>
        <p:spPr>
          <a:xfrm>
            <a:off x="442800" y="3557520"/>
            <a:ext cx="8258400" cy="22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500720" y="168588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804000" y="16574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3708360" y="2349360"/>
            <a:ext cx="1295280" cy="498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596360" y="23907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325600" y="409104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219640" y="404820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711920" y="406224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173240" y="4797360"/>
            <a:ext cx="1008000" cy="498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205240" y="4724280"/>
            <a:ext cx="1008360" cy="498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697880" y="4738680"/>
            <a:ext cx="10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798480"/>
            <a:ext cx="8591760" cy="5438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0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76360" y="1357200"/>
            <a:ext cx="7991280" cy="4143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7164360" y="1413000"/>
            <a:ext cx="720720" cy="498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356000" y="2722680"/>
            <a:ext cx="936720" cy="49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2771640" y="4148280"/>
            <a:ext cx="936720" cy="4982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492360" y="4710240"/>
            <a:ext cx="1800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237960" y="1100160"/>
            <a:ext cx="8668080" cy="4657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187280" y="3198960"/>
            <a:ext cx="3529080" cy="49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52908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3529080" cy="49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1134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357120" y="808200"/>
            <a:ext cx="8429760" cy="5933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4896000" cy="498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4896000" cy="49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900000" y="5597640"/>
            <a:ext cx="5761080" cy="498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826920" y="6173640"/>
            <a:ext cx="5761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52560" y="817560"/>
            <a:ext cx="9038880" cy="54198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68360" y="373068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68360" y="437976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11280" y="5099040"/>
            <a:ext cx="6696000" cy="49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11280" y="5748480"/>
            <a:ext cx="6696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223920" y="708120"/>
            <a:ext cx="8696160" cy="6105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4249800"/>
            <a:ext cx="5327640" cy="4982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55640" y="4883040"/>
            <a:ext cx="5327640" cy="498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12720" y="5603760"/>
            <a:ext cx="5327640" cy="498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68360" y="6251400"/>
            <a:ext cx="828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357120" y="1047600"/>
            <a:ext cx="8429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1957320" y="1728720"/>
            <a:ext cx="5229360" cy="3400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835280" y="1801800"/>
            <a:ext cx="496872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763640" y="2421000"/>
            <a:ext cx="4969080" cy="498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835280" y="3170160"/>
            <a:ext cx="4968720" cy="498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4969080" cy="498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835280" y="4465800"/>
            <a:ext cx="61214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1:21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